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B41-FA93-4444-AB5E-A8107B7D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A7A-64D8-4A59-A2B9-9930BFD9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DF71-1E76-42A2-B5F9-7FCF1D6E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56B6-6C7F-46BA-A0CD-E61587BD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4DFE-CBD8-482E-8366-C9647BA4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3688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A288-9930-473C-B3B1-0073E4C7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D5BF-543E-4DA1-BD75-142ED2CB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6928-F249-441E-A00D-EFF4B341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7E33-F9FC-4220-AEA2-1A09EAAE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-67176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C97A-3FBE-4E22-A9B9-E0380A78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B7B3-D4B5-440D-AD5B-EF802CF6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688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CEF4-0624-4B7F-82EC-30416168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39A4-0B38-4F44-9EB4-34DB048D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870F-AD0B-4F9A-902E-B4369C69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35CC-5104-4B5D-8BA2-B978044E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151F-284C-4B2F-AAA8-039547CA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DB2D-9C79-46A0-BCDB-A31698E8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EC6-0AB1-45A0-A932-D70F6B1A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B53-62E4-40D8-88DF-3EA0D0B7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DE65-310D-429B-A9E6-7A4AB921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67176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CD47-A7B8-45D7-B7FD-D4E704DA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C3B7-0D0C-453B-8604-8B5CD610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24A6-8D26-4F09-8E43-CBE6CF7E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C8C-5B07-4A7A-8869-67082362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f4a25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103422240">
              <a:spcBef>
                <a:spcPts val="700"/>
              </a:spcBef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2" marL="81288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3" marL="10684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4" marL="131616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5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6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339"/>
                </a:solidFill>
                <a:latin typeface="Candara"/>
                <a:ea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339"/>
                </a:solidFill>
                <a:latin typeface="Candara"/>
                <a:ea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339"/>
                </a:solidFill>
                <a:latin typeface="Candara"/>
                <a:ea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95B8-3BB4-4066-B712-F253194279FC}" type="slidenum">
              <a:rPr b="0" lang="en-US" sz="1200" spc="-1" strike="noStrike">
                <a:solidFill>
                  <a:srgbClr val="795339"/>
                </a:solidFill>
                <a:latin typeface="Candara"/>
                <a:ea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727200" y="1062000"/>
            <a:ext cx="4600440" cy="3978360"/>
          </a:xfrm>
          <a:prstGeom prst="rect">
            <a:avLst/>
          </a:prstGeom>
          <a:solidFill>
            <a:srgbClr val="2f1e12"/>
          </a:solidFill>
          <a:ln w="0">
            <a:noFill/>
          </a:ln>
          <a:effectLst>
            <a:outerShdw dist="25318" dir="7190755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f4a25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103422240">
              <a:spcBef>
                <a:spcPts val="700"/>
              </a:spcBef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2" marL="81288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3" marL="10684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4" marL="131616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5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6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339"/>
                </a:solidFill>
                <a:latin typeface="Candara"/>
                <a:ea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339"/>
                </a:solidFill>
                <a:latin typeface="Candara"/>
                <a:ea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339"/>
                </a:solidFill>
                <a:latin typeface="Candara"/>
                <a:ea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F4D4-2D87-4E84-8162-F0CA6E95EC97}" type="slidenum">
              <a:rPr b="0" lang="en-US" sz="1200" spc="-1" strike="noStrike">
                <a:solidFill>
                  <a:srgbClr val="795339"/>
                </a:solidFill>
                <a:latin typeface="Candara"/>
                <a:ea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bubbleshare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bubbleshare.com/album/428023.885fe1045e3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animoto.com/play/e5gKCE5S8aLE07hQ1foWRQ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pikistrips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ockyou.com/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rockyou.com/show_my_gallery.php?source=ppsl&amp;instanceid=118518595" TargetMode="External"/><Relationship Id="rId2" Type="http://schemas.openxmlformats.org/officeDocument/2006/relationships/hyperlink" Target="http://www.rockyou.com/show_my_gallery.php?source=ppsl&amp;instanceid=118519183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slide.com/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le 1" descr=""/>
          <p:cNvPicPr/>
          <p:nvPr/>
        </p:nvPicPr>
        <p:blipFill>
          <a:blip r:embed="rId1"/>
          <a:stretch/>
        </p:blipFill>
        <p:spPr>
          <a:xfrm>
            <a:off x="682560" y="987480"/>
            <a:ext cx="7785000" cy="2646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9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95339"/>
                </a:solidFill>
                <a:latin typeface="Candara"/>
              </a:rPr>
              <a:t>Connie White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95339"/>
                </a:solidFill>
                <a:latin typeface="Candara"/>
              </a:rPr>
              <a:t>Director of Technology &amp; Media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9000"/>
          </a:bodyPr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http://www.slide.com/r/ag7-Fttb5D8KWXWy8RF2x6XWDvSU73Wp?previous_view=mscd_embedded_url&amp;view=origina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Create a Graph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http://nces.ed.gov/nceskids/createagraph/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Nicenet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http://www.nicenet.org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GoWeb20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http://www.go2web20.net/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indent="9650160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Bubbleshare  </a:t>
            </a:r>
            <a:r>
              <a:rPr b="0" lang="en-US" sz="2800" spc="-1" strike="noStrike" u="sng">
                <a:solidFill>
                  <a:srgbClr val="9b7300"/>
                </a:solidFill>
                <a:uFillTx/>
                <a:latin typeface="Candara"/>
                <a:hlinkClick r:id="rId2"/>
              </a:rPr>
              <a:t>http://www.bubbleshare.com/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BubbleBar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BubbleWidge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9650160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ign up for an account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9650160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Create an album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lect theme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Add effects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9650160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hare the album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Blog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9650160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82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676520" y="1447920"/>
            <a:ext cx="5543280" cy="3598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981080" y="5257800"/>
            <a:ext cx="457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b7300"/>
                </a:solidFill>
                <a:uFillTx/>
                <a:latin typeface="Candara"/>
                <a:hlinkClick r:id="rId3"/>
              </a:rPr>
              <a:t>http://www.bubbleshare.com/album/428023.885fe1045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Get pictures – must have 10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Add music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inalize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b7300"/>
                </a:solidFill>
                <a:uFillTx/>
                <a:latin typeface="Candara"/>
                <a:hlinkClick r:id="rId2"/>
              </a:rPr>
              <a:t>http://animoto.com/play/e5gKCE5S8aLE07hQ1foWRQ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2" name="Picture 7" descr="animoto.jpg"/>
          <p:cNvPicPr/>
          <p:nvPr/>
        </p:nvPicPr>
        <p:blipFill>
          <a:blip r:embed="rId3"/>
          <a:stretch/>
        </p:blipFill>
        <p:spPr>
          <a:xfrm>
            <a:off x="2819520" y="4648320"/>
            <a:ext cx="37051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Pikistrips - </a:t>
            </a:r>
            <a:r>
              <a:rPr b="0" lang="en-US" sz="2800" spc="-1" strike="noStrike" u="sng">
                <a:solidFill>
                  <a:srgbClr val="9b7300"/>
                </a:solidFill>
                <a:uFillTx/>
                <a:latin typeface="Candara"/>
                <a:hlinkClick r:id="rId2"/>
              </a:rPr>
              <a:t>http://www.pikistrips.com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20080" cy="271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omic-p"/>
          <p:cNvPicPr/>
          <p:nvPr/>
        </p:nvPicPr>
        <p:blipFill>
          <a:blip r:embed="rId2"/>
          <a:stretch/>
        </p:blipFill>
        <p:spPr>
          <a:xfrm>
            <a:off x="1447920" y="3352680"/>
            <a:ext cx="6318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Rock You! - </a:t>
            </a:r>
            <a:r>
              <a:rPr b="0" lang="en-US" sz="2800" spc="-1" strike="noStrike" u="sng">
                <a:solidFill>
                  <a:srgbClr val="9b7300"/>
                </a:solidFill>
                <a:uFillTx/>
                <a:latin typeface="Candara"/>
                <a:hlinkClick r:id="rId2"/>
              </a:rPr>
              <a:t>http://rockyou.com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00" name="Picture 3" descr="rockyou.jpg"/>
          <p:cNvPicPr/>
          <p:nvPr/>
        </p:nvPicPr>
        <p:blipFill>
          <a:blip r:embed="rId3"/>
          <a:stretch/>
        </p:blipFill>
        <p:spPr>
          <a:xfrm>
            <a:off x="685800" y="2743200"/>
            <a:ext cx="77151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b7300"/>
                </a:solidFill>
                <a:uFillTx/>
                <a:latin typeface="Candara"/>
                <a:hlinkClick r:id="rId1"/>
              </a:rPr>
              <a:t>http://www.rockyou.com/show_my_gallery.php?source=ppsl&amp;instanceid=118518595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b7300"/>
                </a:solidFill>
                <a:uFillTx/>
                <a:latin typeface="Candara"/>
                <a:hlinkClick r:id="rId2"/>
              </a:rPr>
              <a:t>http://www.rockyou.com/show_my_gallery.php?source=ppsl&amp;instanceid=118519183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lide.com - </a:t>
            </a:r>
            <a:r>
              <a:rPr b="0" lang="en-US" sz="2800" spc="-1" strike="noStrike" u="sng">
                <a:solidFill>
                  <a:srgbClr val="9b7300"/>
                </a:solidFill>
                <a:uFillTx/>
                <a:latin typeface="Candara"/>
                <a:hlinkClick r:id="rId2"/>
              </a:rPr>
              <a:t>http://www.slide.com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05" name="Picture 3" descr="slide.com"/>
          <p:cNvPicPr/>
          <p:nvPr/>
        </p:nvPicPr>
        <p:blipFill>
          <a:blip r:embed="rId3"/>
          <a:stretch/>
        </p:blipFill>
        <p:spPr>
          <a:xfrm>
            <a:off x="1905120" y="2133720"/>
            <a:ext cx="5083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5T02:25:01Z</dcterms:created>
  <dc:creator>Connie White</dc:creator>
  <dc:description/>
  <dc:language>en-US</dc:language>
  <cp:lastModifiedBy>Connie White</cp:lastModifiedBy>
  <dcterms:modified xsi:type="dcterms:W3CDTF">2008-07-29T18:12:53Z</dcterms:modified>
  <cp:revision>25</cp:revision>
  <dc:subject/>
  <dc:title>Slide 1</dc:title>
</cp:coreProperties>
</file>